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9536-1C18-498A-9234-7D19039A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240" y="384624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3036-C411-4806-BF11-C2598CD3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24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692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6DCC-B6FF-4360-8510-9FDEAC12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184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280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24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184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280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C76F-4330-4AA8-A213-8011225C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F8E7-1EE0-4AAF-ABB6-0B93E207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5160-9AD5-46EB-9B61-43047E99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92FF-837F-4A31-A22F-4DF4BCFF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4E9F-655D-4887-BB37-7AD945B3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61F5-1CC0-4B7A-A7F7-7E94FC6A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7631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FD22-D771-4D82-826F-0B62BED4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AD96-2064-4B25-BBE3-9A8EEFB9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A4C7-015F-4D66-A9DD-4CA0F611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3692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568F-87DD-494C-904C-75A8BC51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384624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A4AF-BA59-4F3A-9261-AC2CAAD2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384624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C592-C530-486B-B067-C01E3B5E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3692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8A47-D0ED-42CA-BC1F-11A668F4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184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7280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184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7280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1123-8EB5-4643-963C-DDDC8AB7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E8BE-1A85-46B7-BDA8-CB65613F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B3F8-D730-4293-A178-82452752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ACBC-97A4-4309-8EAB-95EC7AB7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7631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0D40-5E33-4503-9F8D-9B6C3452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24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9ED2-6A14-4564-B86C-42589F23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692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A62E-4412-4C78-BC55-E0C681B4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384624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E873-C455-4957-B6DF-55CA8576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477120"/>
            <a:ext cx="4876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B205-5D40-400B-9A77-E7037AB55A3E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D1C5-8D01-433C-B753-F12756E439C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algn="ctr">
              <a:spcBef>
                <a:spcPts val="6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he Heat is On…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Our K-W-L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1219320"/>
            <a:ext cx="2801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hat w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on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b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1219320"/>
            <a:ext cx="26672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hat 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earn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b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295280"/>
            <a:ext cx="2801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hat w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K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b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12193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12193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o answer our Wonder questions we need to…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How is heat evident in every day life?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rainstor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hen you are really cold… how do you stay warm?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rainstor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hen reading a story… what elements does an author use to get the attention of the reader?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rainstor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hat is climate and how does climate impact society?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rainstor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How can you visually organize numbers?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rainstor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t’s all connected…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5:08:29Z</dcterms:created>
  <dc:creator>Administrator</dc:creator>
  <dc:description/>
  <cp:keywords/>
  <dc:language>en-US</dc:language>
  <cp:lastModifiedBy>Administrator</cp:lastModifiedBy>
  <dcterms:modified xsi:type="dcterms:W3CDTF">2007-12-18T14:15:26Z</dcterms:modified>
  <cp:revision>4</cp:revision>
  <dc:subject/>
  <dc:title>The Heat is On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0581033</vt:lpwstr>
  </property>
</Properties>
</file>